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様式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737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29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ヘッダー プレースホルダ 4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様式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29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ヘッダー プレースホルダ 4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様式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29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ヘッダー プレースホルダ 4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様式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29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ヘッダー プレースホルダ 4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様式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53800" y="6356520"/>
            <a:ext cx="679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第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4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回日本気管食道科学会総会ならびに学術講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フッター プレースホルダ 4"/>
          <p:cNvSpPr/>
          <p:nvPr/>
        </p:nvSpPr>
        <p:spPr>
          <a:xfrm>
            <a:off x="1154160" y="6356520"/>
            <a:ext cx="6792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回日本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頭頸部外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学会総会ならびに学術講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34720" y="1620720"/>
            <a:ext cx="522756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日本頭頸部外科学会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利益相反（ＣＯ Ｉ） 開示</a:t>
            </a:r>
            <a:br>
              <a:rPr sz="28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400"/>
            </a:br>
            <a:r>
              <a:rPr b="1" i="1" lang="ja-JP" sz="2000" spc="-1" strike="noStrike">
                <a:solidFill>
                  <a:srgbClr val="000000"/>
                </a:solidFill>
                <a:latin typeface="Calibri"/>
              </a:rPr>
              <a:t>筆頭演者名：　○○　○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16040" y="3618000"/>
            <a:ext cx="7875360" cy="15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筆頭演者：演題発表に関連し、開示すべき利益相反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I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関係にある企業・団体等はありませ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3"/>
          <p:cNvSpPr/>
          <p:nvPr/>
        </p:nvSpPr>
        <p:spPr>
          <a:xfrm>
            <a:off x="369720" y="241200"/>
            <a:ext cx="84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口頭発表における利益相反（ＣＯＩ）状態の開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申告すべき利益相反（ＣＯＩ）状態がない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テキスト ボックス 1"/>
          <p:cNvSpPr/>
          <p:nvPr/>
        </p:nvSpPr>
        <p:spPr>
          <a:xfrm>
            <a:off x="8039160" y="482760"/>
            <a:ext cx="1104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Times New Roman"/>
              </a:rPr>
              <a:t>（様式　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11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フッター プレースホルダ 4"/>
          <p:cNvSpPr/>
          <p:nvPr/>
        </p:nvSpPr>
        <p:spPr>
          <a:xfrm>
            <a:off x="1154160" y="6356520"/>
            <a:ext cx="6792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回日本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頭頸部外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学会総会ならびに学術講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正方形/長方形 3"/>
          <p:cNvSpPr/>
          <p:nvPr/>
        </p:nvSpPr>
        <p:spPr>
          <a:xfrm>
            <a:off x="590400" y="30312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ポスター発表における利益相反（ＣＯＩ）状態の開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　　　　申告すべき利益相反（ＣＯＩ）状態がない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　　　　ポスターの末尾に以下の様に開示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正方形/長方形 6"/>
          <p:cNvSpPr/>
          <p:nvPr/>
        </p:nvSpPr>
        <p:spPr>
          <a:xfrm>
            <a:off x="628560" y="2820960"/>
            <a:ext cx="8002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筆頭演者：演題発表に関連し、開示すべき利益相反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I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　　 　　　　関係にある企業・団体等はありませ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正方形/長方形 7"/>
          <p:cNvSpPr/>
          <p:nvPr/>
        </p:nvSpPr>
        <p:spPr>
          <a:xfrm>
            <a:off x="590400" y="2720880"/>
            <a:ext cx="8078760" cy="884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8074080" y="492120"/>
            <a:ext cx="81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Times New Roman"/>
              </a:rPr>
              <a:t>（様式　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11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フッター プレースホルダ 4"/>
          <p:cNvSpPr/>
          <p:nvPr/>
        </p:nvSpPr>
        <p:spPr>
          <a:xfrm>
            <a:off x="1160640" y="6400800"/>
            <a:ext cx="6786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回日本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頭頸部外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学会総会ならびに学術講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4960" y="1098720"/>
            <a:ext cx="5588280" cy="159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日本頭頸部外科学会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利益相反（ＣＯ Ｉ）開示</a:t>
            </a:r>
            <a:br>
              <a:rPr sz="28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1" i="1" lang="ja-JP" sz="2000" spc="-1" strike="noStrike">
                <a:solidFill>
                  <a:srgbClr val="000000"/>
                </a:solidFill>
                <a:latin typeface="Calibri"/>
              </a:rPr>
              <a:t>筆頭演者名：　○○　○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6760" y="2760480"/>
            <a:ext cx="6124680" cy="364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筆頭演者の利益相反（ＣＯ Ｉ）開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役員・顧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株式の利益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特許使用料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講演料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原稿料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研究費・助成金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〇〇製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奨学寄付金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〇〇製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研究員の受け入れ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あり（〇〇製薬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寄付講座所属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旅費・贈答品など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正方形/長方形 1"/>
          <p:cNvSpPr/>
          <p:nvPr/>
        </p:nvSpPr>
        <p:spPr>
          <a:xfrm>
            <a:off x="957240" y="163440"/>
            <a:ext cx="72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口頭発表における利益相反（ＣＯＩ）状態の開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申告すべき利益相反（ＣＯＩ）状態がある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テキスト ボックス 1"/>
          <p:cNvSpPr/>
          <p:nvPr/>
        </p:nvSpPr>
        <p:spPr>
          <a:xfrm>
            <a:off x="7978680" y="404640"/>
            <a:ext cx="105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Times New Roman"/>
              </a:rPr>
              <a:t>（様式　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11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フッター プレースホルダ 4"/>
          <p:cNvSpPr/>
          <p:nvPr/>
        </p:nvSpPr>
        <p:spPr>
          <a:xfrm>
            <a:off x="1154160" y="6356520"/>
            <a:ext cx="6792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回日本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頭頸部外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学会総会ならびに学術講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53760" y="2244600"/>
            <a:ext cx="599436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筆頭演者の利益相反（ＣＯ Ｉ）開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役員・顧問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株式の利益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特許使用料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講演料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原稿料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研究費・助成金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〇〇製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奨学寄付金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〇〇製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研究員の受け入れ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あり（〇〇製薬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寄付講座所属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旅費・贈答品など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17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3"/>
          <p:cNvSpPr/>
          <p:nvPr/>
        </p:nvSpPr>
        <p:spPr>
          <a:xfrm>
            <a:off x="590400" y="30312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ポスター発表における利益相反（ＣＯＩ）状態の開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　　　　申告すべき利益相反（ＣＯＩ）状態がある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　　　　　ポスターの末尾に以下の様に開示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テキスト ボックス 1"/>
          <p:cNvSpPr/>
          <p:nvPr/>
        </p:nvSpPr>
        <p:spPr>
          <a:xfrm>
            <a:off x="8074080" y="517680"/>
            <a:ext cx="1069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Times New Roman"/>
              </a:rPr>
              <a:t>（様式　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ja-JP" sz="11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3:17:17Z</dcterms:created>
  <dc:creator>Travis Alexander Yano</dc:creator>
  <dc:description/>
  <dc:language>en-US</dc:language>
  <cp:lastModifiedBy>飯塚 智子</cp:lastModifiedBy>
  <cp:lastPrinted>2012-11-19T02:54:35Z</cp:lastPrinted>
  <dcterms:modified xsi:type="dcterms:W3CDTF">2013-05-07T08:24:16Z</dcterms:modified>
  <cp:revision>135</cp:revision>
  <dc:subject/>
  <dc:title>PowerPoint Presentation</dc:title>
</cp:coreProperties>
</file>